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7C3-949D-4009-B330-39279550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529-8931-48F5-8253-88CE63AD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AE9-D484-4ED3-89B3-2B5A7B53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94D-E8C7-4FB4-BF90-430805B5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ADD-C05B-4CFC-B22C-1F78190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D31-DD6F-4E9B-839A-AF3A8BE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411-A51E-4948-B006-AB4E09D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F4B-FA58-4F9C-AECC-2787ED93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2D6-87C1-403A-B0F1-D3FF790C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DD3-96B9-4B97-B64C-C0CCF7B8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161-B262-4B58-A8BD-38DF4FE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840-7C25-49CF-92D2-4F54AB49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BC3B-8664-4C40-9E2A-A9CF3285BDB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ob%20cartoon%20cropped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181296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19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Bob Johnson</a:t>
            </a:r>
            <a:br>
              <a:rPr sz="8800"/>
            </a:br>
            <a:br>
              <a:rPr sz="2800"/>
            </a:b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0407 00211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e%20rack%20-%20no%20ties%20cropped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5181480" cy="2311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7" name="tie%20rack%20with%20ties%20cropped" descr=""/>
          <p:cNvPicPr/>
          <p:nvPr/>
        </p:nvPicPr>
        <p:blipFill>
          <a:blip r:embed="rId2"/>
          <a:stretch/>
        </p:blipFill>
        <p:spPr>
          <a:xfrm>
            <a:off x="3733920" y="2895480"/>
            <a:ext cx="3809880" cy="371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HK%20Disneyland%20(45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343400" y="53341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371600"/>
            <a:ext cx="2971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les &amp;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6483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685800"/>
            <a:ext cx="274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yramid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71600"/>
            <a:ext cx="3657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angles within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819520"/>
            <a:ext cx="274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mes / B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6576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11540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CK POSITIONING:</a:t>
            </a:r>
            <a:br>
              <a:rPr sz="4800"/>
            </a:br>
            <a:br>
              <a:rPr sz="2400"/>
            </a:b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HIGH PROFIT LIN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st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now what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Eye level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position in classific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ose to Bas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amp; Best Sell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ppropriate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crease facing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custome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nefit stat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Use in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47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7295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ar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lso traffic gener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go 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‘cold’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ts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ime position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y not to positio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ll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in st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1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320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BEST SELLERS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&amp; BASIC STO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55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Hot spots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(high visibility &amp; traff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Promotional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Promotional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 displ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Satellite’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Bulk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stacks </a:t>
            </a: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pallet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displ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Near best sellers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lin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onitor sales &amp; ord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carefu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SEASONAL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61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7914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Display with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main item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Between main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tem and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S terminal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‘theme’ display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338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052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RELATED ST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69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09520" y="2133720"/>
            <a:ext cx="8034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is their ability to stan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traffic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 desk or point-of-sale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aiting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 best sellers or basic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800" indent="-568800"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art of ‘theme’ 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5998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IMPULSE ITEM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5715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NB: Impulse purchases are not merely ‘small change’ item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76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66320" y="2209320"/>
            <a:ext cx="77914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Visible from entry -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but not necessarily </a:t>
            </a: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at 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front of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Strongly </a:t>
            </a: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ticke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Window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Any ad for a product you stock is an ad for you ... </a:t>
            </a: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‘piggy-back’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33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DVERTISED STOC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82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157040" y="2209680"/>
            <a:ext cx="7791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igh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t (create a foc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lace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-tr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taff on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it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‘product of the week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ith a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ood s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spcBef>
                <a:spcPts val="9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ucky d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669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hiller"/>
              </a:rPr>
              <a:t>PROBLEM STOCK…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(before reducing price and profit !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89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65324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it to a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‘hot’ sp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best sellers &amp; basic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ove to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eye level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ear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ove to dump bin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price poi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value perception </a:t>
            </a:r>
            <a:br>
              <a:rPr sz="3200"/>
            </a:b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“5 for $10 </a:t>
            </a:r>
            <a:r>
              <a:rPr b="0" i="1" lang="en-AU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00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ive it a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‘holiday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romot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it’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worst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aff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for most s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Gift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 with purchas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ask suppliers for sup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ffer a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 Free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dditiona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‘servic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DET%20logo" descr=""/>
          <p:cNvPicPr/>
          <p:nvPr/>
        </p:nvPicPr>
        <p:blipFill>
          <a:blip r:embed="rId1"/>
          <a:stretch/>
        </p:blipFill>
        <p:spPr>
          <a:xfrm>
            <a:off x="7010280" y="6087960"/>
            <a:ext cx="2133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304920" y="6172200"/>
            <a:ext cx="533160" cy="459720"/>
            <a:chOff x="304920" y="6172200"/>
            <a:chExt cx="533160" cy="459720"/>
          </a:xfrm>
        </p:grpSpPr>
        <p:sp>
          <p:nvSpPr>
            <p:cNvPr id="94" name=""/>
            <p:cNvSpPr/>
            <p:nvPr/>
          </p:nvSpPr>
          <p:spPr>
            <a:xfrm>
              <a:off x="304920" y="6172200"/>
              <a:ext cx="53316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240" y="6172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2:27:01Z</dcterms:created>
  <dc:creator>Bob</dc:creator>
  <dc:description/>
  <dc:language>en-US</dc:language>
  <cp:lastModifiedBy>Bob</cp:lastModifiedBy>
  <dcterms:modified xsi:type="dcterms:W3CDTF">2008-03-09T22:38:22Z</dcterms:modified>
  <cp:revision>2</cp:revision>
  <dc:subject/>
  <dc:title>Bob Johnson  0407 002115</dc:title>
</cp:coreProperties>
</file>